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7DD-AE3F-4647-AC8E-15FBA788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6B7-08A5-4F08-B0B8-B0574E11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837-7568-401C-AE4E-ED8E42BB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79D-2476-4781-9271-9703F331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2DC4-245D-4248-9306-CD4939E8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E279-C540-4926-82FD-C53AB26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5516-FF02-4638-A064-83CB442D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3140-1609-4248-8810-415538F4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3BE-0E27-4199-BE1F-7A3824CC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8772-E4DB-44CE-9D52-97F9AC97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DBB5-0B4A-4DCB-A40F-BCE8E4EB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811-C6B1-4F61-9274-1545F01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698-A332-4678-952D-F24B69C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FFCE-4798-433D-A06F-1A42AAA3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FD53-417C-4063-A149-3EAD45E9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872B-6D63-468E-A1DC-21D147BC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B475-CFBA-4EA2-B9CF-DA22E375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AAE-FAE1-415E-A058-6D6E170E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4A7-2E9A-427F-9C5D-9200A543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CE6-FF5B-4743-99C3-5A321A4D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77A-3448-457E-8956-020A5E99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0AE-B9F6-44DC-BD7A-0A0C1B1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045-45C4-41B5-BC38-5C19EAC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557-8237-4E62-9CBD-E76308B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42E8-BA58-4682-BA27-D2879CE060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6FAB-0466-4F58-81D5-9B55E75905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sis Statement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is too wordy to be a good thesis sta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e Lincoln was one of the best presidents the United States has ever kn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e Lincoln was an excellent speaker,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 of the United States, a liberator of slaves, and united the North and South at the end of the American Civil W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o Wo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e Lincoln was an excellent speaker,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 of the United States, a liberator of slaves, and united the North and South at the end of the American Civil W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too gener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Too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ands Middle School is a good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writing practice has led to improved writing skills for the students at Highlands Middle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j0286034"/>
          <p:cNvPicPr/>
          <p:nvPr/>
        </p:nvPicPr>
        <p:blipFill>
          <a:blip r:embed="rId1"/>
          <a:stretch/>
        </p:blipFill>
        <p:spPr>
          <a:xfrm>
            <a:off x="1752480" y="91440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is too general to be a good thesis sta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 makes people happ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 therapy is useful in relieving stress and other conditi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o 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c makes people happ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a tit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A 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of L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living in White Plains is higher than in many other cities in the United Sta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j0286034"/>
          <p:cNvPicPr/>
          <p:nvPr/>
        </p:nvPicPr>
        <p:blipFill>
          <a:blip r:embed="rId1"/>
          <a:stretch/>
        </p:blipFill>
        <p:spPr>
          <a:xfrm>
            <a:off x="1752480" y="114300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would not be a good thesis statement because it is a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15328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ood teaching has led to an increase in ELA scores at Highlands Middle Schoo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sing ELA Scores at Highlands Middle Schoo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15328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sing ELA Scores at Highlands Middle Schoo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a a fac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A f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temperature for White Plains in winter is in the 20’s and in summer is in the 80’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imate in White Plains is ideal for outdoor sports almost all year rou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j0286034"/>
          <p:cNvPicPr/>
          <p:nvPr/>
        </p:nvPicPr>
        <p:blipFill>
          <a:blip r:embed="rId1"/>
          <a:stretch/>
        </p:blipFill>
        <p:spPr>
          <a:xfrm>
            <a:off x="1905120" y="1219320"/>
            <a:ext cx="91908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would not be a good thesis statement because it is a f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 recycling of one aluminum can saves enough energy to run a TV for three hou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cycling is one of the most important jobs a person can do to protect our environ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thesis stat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hesis statement is the 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n ess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a point you want to argue or support in an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sis statement explains to a reader the main idea of the essay, and the writer’s opinion about that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7696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cycling of one aluminum can saves enough energy to run a TV for three hou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More Practic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most people believe otherwise, bats are harmless and highly beneficia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is essay I will discuss the crime rate in Mountain Cit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etic exercise is a good way to help relieve stre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lands Middle School and Eastview Middle School differ in many way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paper will consider the advantages and disadvantages of students having nightly homewor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te speech should be eliminated for many reas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ke out a piece of notebook paper and number from 1 to 10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ach of the following slides tell whether the sentence is a good or bad thesis stat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y people do not like to watch violent horror movi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day’s movies do not have the emotional impact of the classic horror movies of the 1940’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is usually one senten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 often placed in the introductory paragraph of an ess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is a claim that can be argu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ssay will contain evidence and opinions that support the argu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p music is the best music eve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hough many people find rap music offensive, it has had a positive impact on today’s yout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enjoy white water raft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irst white water rafting trip can challenge a person both in body and spiri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students are bus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fe of a typical sixth grade student is challenging due to the need to succeed in extracurricular activiti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ty service projects include building shelter for the homeless, servicing meals to the hungry, providing transportation for the sick, distributing clothes, and a large number of other helpful activi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should help others who are less fortunat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sis statements avoid the following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(I believe, In my opinion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lear language (It seem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mpting two topics at once, even if they seem re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 one and stick with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stating a fact . A thesis is something you plan to make an argument abou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hesis statement shou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in a </a:t>
            </a: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topic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main idea of what you are writing abou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in an </a:t>
            </a: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opin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bout the topic (what your attitude is toward the top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too bro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Too 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is a magnificent place to liv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teachers make Highlands Middle School a fantastic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j0286034"/>
          <p:cNvPicPr/>
          <p:nvPr/>
        </p:nvPicPr>
        <p:blipFill>
          <a:blip r:embed="rId1"/>
          <a:stretch/>
        </p:blipFill>
        <p:spPr>
          <a:xfrm>
            <a:off x="3200400" y="182880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is too broad to be a good thesis sta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reason to live in White Plains is because it is very close to New York Cit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untain City is a great place to li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o 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e Plains is a great place to li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too word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blems with Highlands Middle School are that it needs a larger playground, an air conditioned gym,, restrooms connected to each classroom, running water in the classrooms, and a number of other physical changes to the buil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ands Middle School needs several changes to its facility to make it a better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j0286034"/>
          <p:cNvPicPr/>
          <p:nvPr/>
        </p:nvPicPr>
        <p:blipFill>
          <a:blip r:embed="rId1"/>
          <a:stretch/>
        </p:blipFill>
        <p:spPr>
          <a:xfrm>
            <a:off x="1905120" y="114300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3:30:32Z</dcterms:created>
  <dc:creator>Gay  Miller</dc:creator>
  <dc:description/>
  <dc:language>en-US</dc:language>
  <cp:lastModifiedBy>Computer Tech</cp:lastModifiedBy>
  <dcterms:modified xsi:type="dcterms:W3CDTF">2013-03-19T16:39:06Z</dcterms:modified>
  <cp:revision>30</cp:revision>
  <dc:subject/>
  <dc:title>Thesis Statement</dc:title>
</cp:coreProperties>
</file>